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03200" y="683280"/>
            <a:ext cx="449568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0280" y="4271400"/>
            <a:ext cx="56818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my notes for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431200" y="101520"/>
            <a:ext cx="361800" cy="362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lastslide"/>
          </p:cNvPr>
          <p:cNvSpPr/>
          <p:nvPr/>
        </p:nvSpPr>
        <p:spPr>
          <a:xfrm>
            <a:off x="7896240" y="0"/>
            <a:ext cx="460440" cy="576360"/>
          </a:xfrm>
          <a:custGeom>
            <a:avLst/>
            <a:gdLst>
              <a:gd name="textAreaLeft" fmla="*/ 29520 w 460440"/>
              <a:gd name="textAreaRight" fmla="*/ 430920 w 460440"/>
              <a:gd name="textAreaTop" fmla="*/ 29520 h 576360"/>
              <a:gd name="textAreaBottom" fmla="*/ 546840 h 57636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lnTo>
                  <a:pt x="21600" y="0"/>
                </a:lnTo>
                <a:lnTo>
                  <a:pt x="21600" y="27034"/>
                </a:lnTo>
                <a:lnTo>
                  <a:pt x="0" y="27034"/>
                </a:lnTo>
                <a:close/>
              </a:path>
              <a:path fill="lightenLess" w="21600" h="27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4">
                <a:moveTo>
                  <a:pt x="21600" y="0"/>
                </a:moveTo>
                <a:lnTo>
                  <a:pt x="21600" y="27034"/>
                </a:lnTo>
                <a:lnTo>
                  <a:pt x="20200" y="25634"/>
                </a:lnTo>
                <a:lnTo>
                  <a:pt x="20200" y="1400"/>
                </a:lnTo>
                <a:close/>
              </a:path>
              <a:path fill="darkenLess" w="21600" h="27034">
                <a:moveTo>
                  <a:pt x="21600" y="27034"/>
                </a:moveTo>
                <a:lnTo>
                  <a:pt x="0" y="27034"/>
                </a:lnTo>
                <a:lnTo>
                  <a:pt x="1400" y="25634"/>
                </a:lnTo>
                <a:lnTo>
                  <a:pt x="20200" y="25634"/>
                </a:lnTo>
                <a:close/>
              </a:path>
              <a:path fill="lighten" w="21600" h="27034">
                <a:moveTo>
                  <a:pt x="0" y="27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459560" y="111240"/>
            <a:ext cx="36216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304920" y="266760"/>
            <a:ext cx="736560" cy="749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77680" y="912960"/>
            <a:ext cx="5805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arly River Valley Civilizations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3500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.C.–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450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1952640"/>
            <a:ext cx="68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vilizations emerge and develop on fertile river plains in Mesopotamia, Egypt, the Indus Valley, and Chi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74800" y="2174760"/>
            <a:ext cx="54658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erian Science and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erians invent wheel, sail, and plow; first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bron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dvances in arithmetic and 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rches, columns, ramps and pyram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complex system of writing—cunei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y astronomy, chemistry, medic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78400" y="1690560"/>
            <a:ext cx="26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umerian Cul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3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73000" y="1598760"/>
            <a:ext cx="38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First Empire Bui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73360" y="2174760"/>
            <a:ext cx="5559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of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3000 to 20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-states at constant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73360" y="2903400"/>
            <a:ext cx="541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rgon of Akk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235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argon from Akkad defe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-states of 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first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mpi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independent states u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of one l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dynasty lasts about 200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73360" y="4719600"/>
            <a:ext cx="541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bylonian Emp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rites, nomadic warriors, take control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 around 20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Babylon, on Euphrates River, th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bylonian Empire at peak during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Hammurabi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 (1792-175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4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74800" y="2174760"/>
            <a:ext cx="5465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mmurabi’s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murabi creates a code of laws for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bylonian Emp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2 laws on all aspects of life; engraved in s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ade publ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different punishments depending on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, g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 for government to take responsibility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, jus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rite rule for Fertile Crescent ends 200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Hammurab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80200" y="1690560"/>
            <a:ext cx="34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The First Empire Bui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53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0160" y="3500280"/>
            <a:ext cx="579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mathematical knowledge and engineering skills, Egyptians build magnificent monuments to honor dead rul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370160" y="2397240"/>
            <a:ext cx="6010200" cy="1032840"/>
            <a:chOff x="1370160" y="2397240"/>
            <a:chExt cx="6010200" cy="1032840"/>
          </a:xfrm>
        </p:grpSpPr>
        <p:sp>
          <p:nvSpPr>
            <p:cNvPr id="159" name=""/>
            <p:cNvSpPr/>
            <p:nvPr/>
          </p:nvSpPr>
          <p:spPr>
            <a:xfrm>
              <a:off x="1370160" y="239724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70160" y="2787480"/>
              <a:ext cx="601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Pyramids on the Nile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73360" y="1827360"/>
            <a:ext cx="37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Geography of Egy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69800" y="885960"/>
            <a:ext cx="394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Pyramids on the Ni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73360" y="2403360"/>
            <a:ext cx="5788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’s Sett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e along the 4,100-mile Nile River on narrow str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fertile 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73360" y="3346560"/>
            <a:ext cx="54705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ift of the N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ly flooding brings water and fertile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d—si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mers build irrigation system for wheat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ley cr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ptian’s worship Nile as a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76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774800" y="2174760"/>
            <a:ext cx="5465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al Challe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floods reduce crops, cause sta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vy floods destroy property; deserts isol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rotect Egypt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80560" y="1690560"/>
            <a:ext cx="33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The Geography of Egy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3360" y="3449520"/>
            <a:ext cx="55720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per Egypt and Lower Egy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ver area south of First Cataract is elevat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s Upper Eg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ract—where boulders turn Nile River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rning rap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ver area north, including Nile delta, be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Eg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Del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land formed by silt deposits at mouth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ver; triang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72280" y="159876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gypt Unites into a King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73360" y="2136600"/>
            <a:ext cx="56736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ng Narmer Creates Egyptian Dynas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llages of Egypt ruled by two kingdoms—L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pt, Upper Eg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ar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ites them around 30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ma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is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s first Egyptian dyna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73360" y="3970440"/>
            <a:ext cx="54194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raohs Rule as G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Egyptians, kings are gods; Egyptian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s called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harao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aohs control religion, government, arm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-being of king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based on religious authority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heoc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19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74800" y="2174760"/>
            <a:ext cx="54658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ers of the Pyram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s believed to rule even after death; ha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ernal life forc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elaborate tombs, pyramids, to meet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de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yram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de with blocks of stone, 2-15 t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; 481 ft. 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dom had leadership, governm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cally str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82000" y="1690560"/>
            <a:ext cx="371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gypt Unites into a Kingd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0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74080" y="159876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gyptian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73360" y="2174760"/>
            <a:ext cx="5445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gion and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ptians believe in 2,000 god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desses—polythe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 is sun god, Osiris, god of the dead; godd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is is ideal wom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 in life after death; person judg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ds at de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ummif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ocess that pr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from deca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ok of the D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s prayers and spell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s soul after de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1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71920" y="159876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ife in Egyptia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73360" y="2136600"/>
            <a:ext cx="56736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al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ety shaped like pyramid, from Pharaoh down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mers, labor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people at top have great power; most peo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bot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move into higher social classes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riage or me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have many of the same rights as 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73360" y="4503600"/>
            <a:ext cx="5419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ian Wr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hieroglyph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riting system, pi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erlike sheets made from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apy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eds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2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77680" y="912960"/>
            <a:ext cx="5805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arly River Valley Civilizations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3500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.C.–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450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2046240" y="251136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46240" y="3073320"/>
            <a:ext cx="1741680" cy="3812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46240" y="360684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46240" y="4140360"/>
            <a:ext cx="1741680" cy="3808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45880" y="2503440"/>
            <a:ext cx="32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y-States in Mesopota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6960" y="3079800"/>
            <a:ext cx="25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ramids on the N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46600" y="3591000"/>
            <a:ext cx="32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ed Cities on the In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46240" y="4130640"/>
            <a:ext cx="29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ver Dynasties in Ch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74800" y="2174760"/>
            <a:ext cx="54658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ian Science and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ptians invent calendar of 365 days and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system of written numbers and a form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ed engineers and architects constr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aces, pyram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ptian medicine famous in the ancient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80560" y="1690560"/>
            <a:ext cx="32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Life in Egyptian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3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74080" y="159876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nvaders Control Egy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73360" y="2174760"/>
            <a:ext cx="58896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to Egyptian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of Pharaohs declines about 218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nd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King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iddle Kingdom (2040 to 164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aohs regain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rade, dig canal from Nile to Red Sea, d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mps for fa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ksos move into Egypt from Palestine; rule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0 to 152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08200" y="793800"/>
            <a:ext cx="658800" cy="506160"/>
            <a:chOff x="1708200" y="793800"/>
            <a:chExt cx="658800" cy="506160"/>
          </a:xfrm>
        </p:grpSpPr>
        <p:sp>
          <p:nvSpPr>
            <p:cNvPr id="23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87480" y="96192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1370880" y="2486160"/>
            <a:ext cx="5135400" cy="1600560"/>
            <a:chOff x="1370880" y="2486160"/>
            <a:chExt cx="5135400" cy="1600560"/>
          </a:xfrm>
        </p:grpSpPr>
        <p:sp>
          <p:nvSpPr>
            <p:cNvPr id="243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70880" y="2895480"/>
              <a:ext cx="513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Planned Cities on </a:t>
              </a:r>
              <a:br>
                <a:rPr sz="4500"/>
              </a:b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the Indus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370160" y="4033800"/>
            <a:ext cx="53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Indian civilization builds well-planned cities on the banks of the Indus 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70120" y="1827360"/>
            <a:ext cx="63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Geography of the Indian Subconti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71600" y="885960"/>
            <a:ext cx="517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Planned Cities on the Indu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73360" y="2403360"/>
            <a:ext cx="5788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an Subconti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ubcontin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landmass that includes Indi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kistan, and Banglade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’s tallest mountain ranges separate it from 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5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73360" y="3914640"/>
            <a:ext cx="57880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vers, Mountains, and Pl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ains to north, desert to east, protect Ind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y from inva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 and Ganges rivers from flat, fertile plain—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-Gange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ern India, a dry plateau flanked by mou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rrow strip of tropical land along co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74800" y="2174760"/>
            <a:ext cx="5465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so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 winds—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onso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dominate India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winds are dry; summer winds bring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ause flo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84880" y="1690560"/>
            <a:ext cx="50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The Geography of the Indian Subconti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65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74800" y="3724200"/>
            <a:ext cx="5465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al Challe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ods along the Indus unpredictable; river 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u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fall unpredictable; could have droughts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71200" y="1598760"/>
            <a:ext cx="50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ivilization Emerges on the I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73360" y="2174760"/>
            <a:ext cx="5889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s Valley Civ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uenced an area larger than Mesopotamia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75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73360" y="3191040"/>
            <a:ext cx="5889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iest Arriv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70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vidence of agricultur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esticated anim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bout 32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eople farming in villages a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 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73360" y="4702320"/>
            <a:ext cx="58896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ed 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25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eople build cities of brick laid ou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ers create plumbing and sewag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 Valley called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Harappan civil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appa, a 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73360" y="2174760"/>
            <a:ext cx="58896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appan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built on mud-brick platform to protect again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od wa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ck walls protect city and citadel—central buil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ets in grid system are 30 feet w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es separate rows of house (which feat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hroo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82360" y="1690560"/>
            <a:ext cx="419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ivilization Emerges on the Ind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87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75880" y="159876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arappan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73360" y="2136600"/>
            <a:ext cx="5673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writing systems of 400 symbols; but scient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decipher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73360" y="3106800"/>
            <a:ext cx="58132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appan cities appear uniform in culture; no gr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divi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 important to the culture; toys sugg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pe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29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78040" y="169056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Harappan Cul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06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73360" y="2138400"/>
            <a:ext cx="6156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e of Reli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ests closely linked to ru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eligious artifacts reveals links to modern Hin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73360" y="3398760"/>
            <a:ext cx="6156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hriving trade with other peoples, inclu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opota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73360" y="1598760"/>
            <a:ext cx="39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ndus Valley Culture 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73360" y="2136600"/>
            <a:ext cx="56736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appan Dec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s of decline begin around 175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quakes, floods, soil depletion may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d dec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15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ryans enter area and be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1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87480" y="968400"/>
              <a:ext cx="2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70160" y="2486160"/>
            <a:ext cx="5308200" cy="1600560"/>
            <a:chOff x="1370160" y="2486160"/>
            <a:chExt cx="5308200" cy="1600560"/>
          </a:xfrm>
        </p:grpSpPr>
        <p:sp>
          <p:nvSpPr>
            <p:cNvPr id="61" name=""/>
            <p:cNvSpPr/>
            <p:nvPr/>
          </p:nvSpPr>
          <p:spPr>
            <a:xfrm>
              <a:off x="1370160" y="248616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0160" y="2895480"/>
              <a:ext cx="530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City-States in 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Mesopotamia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378440" y="3975120"/>
            <a:ext cx="720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rliest civilization in Asia rises in Mesopota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organizes into city-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368720" y="2486160"/>
            <a:ext cx="6886440" cy="1078200"/>
            <a:chOff x="1368720" y="2486160"/>
            <a:chExt cx="6886440" cy="1078200"/>
          </a:xfrm>
        </p:grpSpPr>
        <p:sp>
          <p:nvSpPr>
            <p:cNvPr id="323" name=""/>
            <p:cNvSpPr/>
            <p:nvPr/>
          </p:nvSpPr>
          <p:spPr>
            <a:xfrm>
              <a:off x="1371600" y="2486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ction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68720" y="2784600"/>
              <a:ext cx="68864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3399"/>
                  </a:solidFill>
                  <a:latin typeface="Arial"/>
                </a:rPr>
                <a:t>River Dynasties in China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1370160" y="350028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rulers introduce ideas about government and society that shape Chinese civil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73360" y="1827360"/>
            <a:ext cx="37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Geography of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68720" y="885960"/>
            <a:ext cx="464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River Dynasties in Ch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73360" y="2403360"/>
            <a:ext cx="5788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rriers Isolate Ch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an, mountains, deserts isolate China from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79480" y="3359160"/>
            <a:ext cx="57218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ver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ang He (“Yellow River”) in north, Yangtze in s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ang He leave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lo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fertile silt—when it fl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34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78040" y="4349880"/>
            <a:ext cx="54828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al Challe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ang He floods can devour whole vill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ic isolation means lack of trade; must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-su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78760" y="5581800"/>
            <a:ext cx="5507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na’s Heart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China Plain, area between two rivers,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ivi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771560" y="1598760"/>
            <a:ext cx="55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ivilization Emerges in Shang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73360" y="2136600"/>
            <a:ext cx="56736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rst Dynas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20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ities arise; Yu, first ruler of X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u’s flood control systems tames Huang 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“Yellow River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ng Dynasty, 1700 to 102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rst to le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73360" y="4186080"/>
            <a:ext cx="6156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t cities of wood, such as Anyang—one of its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class lives inside city; poorer people live out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ng cities have massive walls for military def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46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74080" y="159876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Development of Chinese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73360" y="2136600"/>
            <a:ext cx="56736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nese Civ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s China as center of world; views others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ivi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oup is more important than the indiv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73360" y="3424320"/>
            <a:ext cx="6156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 is central social institution; respect for parent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der males control family 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expected to obey all men, even s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56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773360" y="4973760"/>
            <a:ext cx="6156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al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and warrior-nobles lead society and own the 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5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73360" y="2174760"/>
            <a:ext cx="58896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gious Beli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rits of dead ancestors can affect family fortu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ests scratch questions on animal bone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toise sh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Oracle b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d to consult gods; supreme go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ng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82360" y="1690560"/>
            <a:ext cx="44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The Development of Chinese Cul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73360" y="4003560"/>
            <a:ext cx="58896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ment of Wr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system uses symbols to represent syllabl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of different languages can use sam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ge number of characters make system difficult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6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74440" y="1598760"/>
            <a:ext cx="43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Zhou and the Dynastic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73360" y="2136600"/>
            <a:ext cx="5673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Zhou Tak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02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Zhou Dynasty takes control of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73360" y="2865600"/>
            <a:ext cx="6156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date of Hea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andate of Heav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the belief that a just ruler h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ne appr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as justification for change in power to Zh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Dynastic 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pattern of the rise and declin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78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773360" y="4681440"/>
            <a:ext cx="6156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Through Feud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Feuda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system where kings give land to noble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for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time, nobles grow in power and begin to fight 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73360" y="2174760"/>
            <a:ext cx="58896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ments in Technology and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hou Dynasty builds roads, canals to impr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ins to make trade eas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 cast iron tools and weapons; f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 incre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80200" y="1690560"/>
            <a:ext cx="37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Zhou and the Dynastic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73360" y="4003560"/>
            <a:ext cx="58896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eriod of Warring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ceful, stable Zhou empire rules from around 10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25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77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omads sack the Zhou capital, 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oyang becomes new capital; but internal w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 tra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708200" y="793800"/>
            <a:ext cx="658800" cy="511920"/>
            <a:chOff x="1708200" y="793800"/>
            <a:chExt cx="658800" cy="511920"/>
          </a:xfrm>
        </p:grpSpPr>
        <p:sp>
          <p:nvSpPr>
            <p:cNvPr id="39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81360" y="995400"/>
              <a:ext cx="304560" cy="3049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4880" y="96840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344680" y="282744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s is the end of the chapter presentation of lecture notes. Click the HOME or EX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81880" y="6010200"/>
            <a:ext cx="49536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8402760" y="6443640"/>
            <a:ext cx="512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endshow"/>
          </p:cNvPr>
          <p:cNvSpPr/>
          <p:nvPr/>
        </p:nvSpPr>
        <p:spPr>
          <a:xfrm>
            <a:off x="8431200" y="111240"/>
            <a:ext cx="36180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" action="ppaction://hlinkshowjump?jump=previousslide"/>
          </p:cNvPr>
          <p:cNvSpPr/>
          <p:nvPr/>
        </p:nvSpPr>
        <p:spPr>
          <a:xfrm>
            <a:off x="8408880" y="6045120"/>
            <a:ext cx="438120" cy="43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05160" y="1274760"/>
            <a:ext cx="5457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Slide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In the pop-up menu,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alog box does not include this pop-up, continue to 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x, choose the presentation format you want to print: slides, notes, handouts, or 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Click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 to print the PowerPoint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>
            <a:hlinkClick r:id="" action="ppaction://hlinkshowjump?jump=firstslide"/>
          </p:cNvPr>
          <p:cNvSpPr/>
          <p:nvPr/>
        </p:nvSpPr>
        <p:spPr>
          <a:xfrm>
            <a:off x="7459560" y="111240"/>
            <a:ext cx="362160" cy="36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411120" y="1644480"/>
            <a:ext cx="2816280" cy="21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3360" y="1827360"/>
            <a:ext cx="50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Geography of the Fertile Cres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69800" y="885960"/>
            <a:ext cx="515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6e19"/>
                </a:solidFill>
                <a:latin typeface="Arial"/>
              </a:rPr>
              <a:t>City-States in Mesopotam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78040" y="2403360"/>
            <a:ext cx="55213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ertile Cres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Fertile Cresc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arc of land between Persi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lf and Mediterran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esopotam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 between the 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ertile pl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gris and Euphrates rivers flood once a yea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ing rich so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7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28800" y="22845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74800" y="2174760"/>
            <a:ext cx="53388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al Challe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33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merians begin farm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ern Mesopota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 poses three disadvantag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ods are unpredictable; sometimes no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 offers no barriers to inva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 has few natural resources; buil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 sca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82720" y="169056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eography of the 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8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74800" y="2174760"/>
            <a:ext cx="53388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Problems Through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erians worked together; find solution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challeng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irrigation ditches to control wat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 cr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walled cities for def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 grain, cloth, and tools for r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—stone, wood m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, leadership, and laws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of civi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82720" y="169056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eography of the 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1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76600" y="1598760"/>
            <a:ext cx="44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umerians Create City-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99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773360" y="2174760"/>
            <a:ext cx="5445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erian City-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30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merians build cities surrou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fields of cr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s a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ity-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an independent pol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er city-states Uruk, Kish, Lagash, Umm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U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ity has temple and ziggurat; priests app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2174760"/>
            <a:ext cx="5465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ests and Rulers Shar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er’s early governments controlled by te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military leaders become rulers; dynas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 after 25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Dynas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series of rulers from a single fam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7360" y="2054160"/>
            <a:ext cx="6913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79840" y="1690560"/>
            <a:ext cx="37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ntinued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umerians Create City-S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73360" y="3995640"/>
            <a:ext cx="55720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read of 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25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ny new cities in Fertile Cres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erians exchange products and idea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ul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ultural diffu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process of one 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ing to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12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429040" y="6443640"/>
            <a:ext cx="41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N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74800" y="159876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umerian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2055960"/>
            <a:ext cx="6934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1880" y="61516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Continued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708200" y="793800"/>
            <a:ext cx="658800" cy="518040"/>
            <a:chOff x="1708200" y="793800"/>
            <a:chExt cx="658800" cy="518040"/>
          </a:xfrm>
        </p:grpSpPr>
        <p:sp>
          <p:nvSpPr>
            <p:cNvPr id="120" name=""/>
            <p:cNvSpPr/>
            <p:nvPr/>
          </p:nvSpPr>
          <p:spPr>
            <a:xfrm>
              <a:off x="1708200" y="79380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81360" y="995400"/>
              <a:ext cx="304560" cy="3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74880" y="974520"/>
              <a:ext cx="2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773360" y="2174760"/>
            <a:ext cx="5445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eligion of Many G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erians believe in many different g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olythe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s are thought to control forces of 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s behave as humans do, but people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s’ serv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after death is bleak and glo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73360" y="4275000"/>
            <a:ext cx="54194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fe in Sumerian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erians have social classes—king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holders, priests at 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lthy merchants next; at lowest levels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have many rights; become pries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hants, artis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439120" y="6095880"/>
            <a:ext cx="39060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21:09:30Z</dcterms:created>
  <dc:creator>McDougal Littell</dc:creator>
  <dc:description/>
  <dc:language>en-US</dc:language>
  <cp:lastModifiedBy>Amy Kalas</cp:lastModifiedBy>
  <cp:lastPrinted>2003-11-12T20:33:16Z</cp:lastPrinted>
  <dcterms:modified xsi:type="dcterms:W3CDTF">2007-11-30T01:52:22Z</dcterms:modified>
  <cp:revision>815</cp:revision>
  <dc:subject/>
  <dc:title>No Slide Title</dc:title>
</cp:coreProperties>
</file>